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DCE4-1884-491A-B49D-C7EC37955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FBAE-FDCA-4E02-8BB3-2995D78C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62B8-8A3D-4070-82DA-1E9DC02A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A8B6-28BA-4DC1-B771-B025CC01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2C30-671C-4D2F-AB27-888FE956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D192-5092-45E2-950E-ED129D8D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F66F-E486-467C-A797-2509F462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2A5-526A-4784-8269-D0D8776D2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560" y="-4173840"/>
            <a:ext cx="15228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B58-51AE-428F-849D-CED60C56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A91-43C9-42FE-B72F-9524D706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34E-C848-45EB-BC5E-0A7ADDDB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560" y="-5142240"/>
            <a:ext cx="1522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AD1-E74B-4B73-AF85-EA5FFB88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2f2f2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4FE2-CD54-4054-98AD-734A61AF9DAB}" type="slidenum">
              <a:rPr b="0" lang="en-US" sz="1200" spc="-1" strike="noStrike">
                <a:solidFill>
                  <a:srgbClr val="f2f2f2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990720" y="2362320"/>
            <a:ext cx="10266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amous America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2743200" y="335268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y Susan He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152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4bdce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c4bdce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1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2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3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4" marL="181800" indent="-181800" algn="ctr">
              <a:spcBef>
                <a:spcPts val="165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5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  <a:p>
            <a:pPr lvl="6" marL="181800" indent="-181800" algn="ctr">
              <a:spcBef>
                <a:spcPts val="16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6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1752480" y="38088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ject Dir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762120" y="1219320"/>
            <a:ext cx="868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is slide, type your famous American’s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one picture of your American and put on th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Content Placeholder 2" descr=""/>
          <p:cNvPicPr/>
          <p:nvPr/>
        </p:nvPicPr>
        <p:blipFill>
          <a:blip r:embed="rId1"/>
          <a:stretch/>
        </p:blipFill>
        <p:spPr>
          <a:xfrm>
            <a:off x="341280" y="1530360"/>
            <a:ext cx="8601120" cy="460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1981080" y="838080"/>
            <a:ext cx="6078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roject Direc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22:05:10Z</dcterms:created>
  <dc:creator>ECPS-USER</dc:creator>
  <dc:description/>
  <dc:language>en-US</dc:language>
  <cp:lastModifiedBy>ECPS-USER</cp:lastModifiedBy>
  <dcterms:modified xsi:type="dcterms:W3CDTF">2010-03-31T22:10:51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03831033</vt:lpwstr>
  </property>
</Properties>
</file>